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BDA-2D10-420B-91DD-73239739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FB4-BE46-40C5-B26E-091C2FB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412-280D-4879-88AE-097033F3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3AD-D9CC-424F-9258-AED850FB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040F-90FD-4401-BB10-77ECB48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CDB4-8CF5-4CBB-B69B-CA735E1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AC98-E2FD-4FA5-A81B-6A3FF3C0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D787-6447-4D72-B55F-AA24BD0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969A-7B5E-43C1-9987-B647F85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B70B-FD07-4328-A18F-C720A633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F07D-AE2D-45D2-948A-D961FC3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EB8-82AF-45FB-B7DC-BDA9C3A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B08-1EE9-4374-8587-302272F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A8FE-E022-4979-90B6-B5803DD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EE9E-F312-45AD-A835-E02D375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90F-E637-4440-945B-A016B18C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644-D5FE-4B15-B3F5-58E45C77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F3B-20C5-4BC8-A448-A689DE5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422-9EE4-49AF-B9C6-EFA9701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52B-4D4D-4DC4-B836-891FA6C7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099-CFCF-4AAF-A70B-29E72543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910-4DA5-4333-A578-A11C2F4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9BE-DA25-4F9D-A783-5C694FE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07E-4098-4DC3-9513-4388BF2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C66-FA19-4BC1-932A-67B95A325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814-1EF4-4010-92A9-111AB78A0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0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, writ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Most Dangerous Gam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of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Conflic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efly summarize the following conflicts from the story. Use examples from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etting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map of Ship Trap Island. Mark on it the course that Rainsford uses while fleeing Zaroff. Include: Where he came ashore, The Chateau, The Swamp, The Traps, and The Cli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s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quote that defines each of the main Characters: Rainsford, Zaroff, and I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theme of Conell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Most dangerous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5:28:37Z</dcterms:created>
  <dc:creator>Kent School District 415</dc:creator>
  <dc:description/>
  <dc:language>en-US</dc:language>
  <cp:lastModifiedBy>VMS</cp:lastModifiedBy>
  <dcterms:modified xsi:type="dcterms:W3CDTF">2009-09-09T20:43:25Z</dcterms:modified>
  <cp:revision>3</cp:revision>
  <dc:subject/>
  <dc:title>The Most Dangerous Game</dc:title>
</cp:coreProperties>
</file>